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09B-2E00-4CDD-BD37-57A9D2A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5FC-F8FF-4945-B713-CD1881C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D29-9C6B-4E9A-BD7A-32FB95F2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96F-6574-4F54-9AE0-5653906B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8A45-1519-49CB-AF21-0294CED9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55B-C914-4F85-8013-018A42B4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0C68-DD6E-4D1B-89A5-E29A7E0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AF08-0833-46CB-9844-56ABC395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66E-D288-4BD7-A9CE-5B8C85A5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F19-372C-4140-86CA-958D5E3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A9F-14D0-4F6F-82A8-0DFBF5B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403-13F8-4204-80CA-6FF0E142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2FC-8782-4A52-9F1F-B8D42F9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3464-C59D-44CC-8204-18A26CA8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06F3-923B-4278-AD7B-CB3224BE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FDF-A101-496C-9119-017139A9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D44D-E63D-46A4-8C31-91FA8C90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474-E2FF-4FEB-A177-4FEB45A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FAE-6BCD-4773-9363-09E908A2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788-A5D0-4F86-A712-78D201D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1CA-E47E-4796-9E46-1EF5DED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B51-234B-401C-832E-66FCCA1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C47-A172-43AE-A96F-05F68B7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455-D77B-4E82-8168-44636BA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2240" y="-11160"/>
            <a:ext cx="10686240" cy="7440120"/>
            <a:chOff x="-1542240" y="-11160"/>
            <a:chExt cx="10686240" cy="7440120"/>
          </a:xfrm>
        </p:grpSpPr>
        <p:sp>
          <p:nvSpPr>
            <p:cNvPr id="1" name="未知"/>
            <p:cNvSpPr/>
            <p:nvPr/>
          </p:nvSpPr>
          <p:spPr>
            <a:xfrm>
              <a:off x="2590920" y="648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324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943600" y="792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3048120" y="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185760" y="168120"/>
              <a:ext cx="556272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 flipH="1" rot="2703000">
              <a:off x="1285200" y="123048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131760" y="921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 rot="18703800">
              <a:off x="-1562400" y="16668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 rot="19294800">
              <a:off x="2112840" y="14634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flipH="1" rot="2085000">
              <a:off x="2951280" y="1387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746760" y="324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5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2590920" y="629460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0" y="629460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943600" y="629460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3048120" y="629460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6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4100400" y="62341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flipH="1" rot="18897000">
              <a:off x="2358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 flipH="1" rot="18897000">
              <a:off x="1215720" y="618300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 flipH="1" rot="18897000">
              <a:off x="46080" y="61315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flipH="1" flipV="1">
              <a:off x="913680" y="62208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未知"/>
            <p:cNvSpPr/>
            <p:nvPr/>
          </p:nvSpPr>
          <p:spPr>
            <a:xfrm flipH="1" flipV="1">
              <a:off x="38052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flipH="1" flipV="1">
              <a:off x="4819680" y="629676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 flipH="1" flipV="1">
              <a:off x="6324480" y="62208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 flipH="1" flipV="1">
              <a:off x="5486400" y="62208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232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23640" y="1052280"/>
            <a:ext cx="85690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971640" y="6424200"/>
            <a:ext cx="785016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0000"/>
                </a:solidFill>
                <a:latin typeface="Arial"/>
                <a:ea typeface="方正姚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方正姚体"/>
              </a:rPr>
              <a:t>容  向</a:t>
            </a:r>
            <a:r>
              <a:rPr b="0" lang="en-US" sz="2400" spc="-1" strike="noStrike">
                <a:solidFill>
                  <a:srgbClr val="f98d43"/>
                </a:solidFill>
                <a:latin typeface="Arial"/>
                <a:ea typeface="方正姚体"/>
              </a:rPr>
              <a:t> —— </a:t>
            </a:r>
            <a:r>
              <a:rPr b="0" lang="zh-CN" sz="2000" spc="-1" strike="noStrike">
                <a:solidFill>
                  <a:srgbClr val="f98d43"/>
                </a:solidFill>
                <a:latin typeface="Arial"/>
                <a:ea typeface="方正姚体"/>
              </a:rPr>
              <a:t>专注于电磁兼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方正姚体"/>
              </a:rPr>
              <a:t>容</a:t>
            </a:r>
            <a:r>
              <a:rPr b="0" lang="zh-CN" sz="2000" spc="-1" strike="noStrike">
                <a:solidFill>
                  <a:srgbClr val="f98d43"/>
                </a:solidFill>
                <a:latin typeface="Arial"/>
                <a:ea typeface="方正姚体"/>
              </a:rPr>
              <a:t>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方正姚体"/>
              </a:rPr>
              <a:t>向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方正姚体"/>
              </a:rPr>
              <a:t>www.emcdir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4648-C13B-4E83-84DF-3330E14778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" name="" descr=""/>
          <p:cNvPicPr/>
          <p:nvPr/>
        </p:nvPicPr>
        <p:blipFill>
          <a:blip r:embed="rId3"/>
          <a:stretch/>
        </p:blipFill>
        <p:spPr>
          <a:xfrm>
            <a:off x="179280" y="6343560"/>
            <a:ext cx="79236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1520" y="-24480"/>
            <a:ext cx="10696680" cy="6895080"/>
            <a:chOff x="-1541520" y="-24480"/>
            <a:chExt cx="10696680" cy="6895080"/>
          </a:xfrm>
        </p:grpSpPr>
        <p:sp>
          <p:nvSpPr>
            <p:cNvPr id="71" name="未知"/>
            <p:cNvSpPr/>
            <p:nvPr/>
          </p:nvSpPr>
          <p:spPr>
            <a:xfrm>
              <a:off x="2590920" y="-6120"/>
              <a:ext cx="27572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0" y="-9360"/>
              <a:ext cx="27576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943600" y="-4680"/>
              <a:ext cx="276084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3048120" y="-12600"/>
              <a:ext cx="33019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85760" y="15516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 flipH="1" rot="2703000">
              <a:off x="1285920" y="1216800"/>
              <a:ext cx="403740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35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131760" y="79200"/>
              <a:ext cx="556272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8703800">
              <a:off x="-1561320" y="1652760"/>
              <a:ext cx="55609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3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9294800">
              <a:off x="2112480" y="1450080"/>
              <a:ext cx="5705640" cy="275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3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flipH="1" rot="2085000">
              <a:off x="2950920" y="1373760"/>
              <a:ext cx="556236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28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6746760" y="-9360"/>
              <a:ext cx="17290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7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590920" y="39488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0" y="39488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943600" y="39488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048120" y="39488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952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4100400" y="38883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 flipH="1" rot="18897000">
              <a:off x="2359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 flipH="1" rot="18897000">
              <a:off x="1216440" y="3836880"/>
              <a:ext cx="168192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 flipH="1" rot="18897000">
              <a:off x="46440" y="3785400"/>
              <a:ext cx="164052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flipH="1" flipV="1">
              <a:off x="913680" y="38757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 flipH="1" flipV="1">
              <a:off x="38052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 flipV="1">
              <a:off x="4819680" y="395172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flipH="1" flipV="1">
              <a:off x="6324480" y="38757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flipH="1" flipV="1">
              <a:off x="5486400" y="38757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88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360"/>
              <a:ext cx="9144000" cy="9140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440"/>
              <a:ext cx="9144000" cy="1447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47760" y="2620440"/>
              <a:ext cx="324000" cy="32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70F-D7C3-48F7-ABAC-17B855747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mscan.com.cn/" TargetMode="External"/><Relationship Id="rId2" Type="http://schemas.openxmlformats.org/officeDocument/2006/relationships/hyperlink" Target="mailto:info@emcdir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6260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ff"/>
                </a:solidFill>
                <a:latin typeface="Arial"/>
              </a:rPr>
              <a:t>回流问题 —— 电缆或板间连接器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地线应该尽可能均匀分布于信号线中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1976400"/>
          <a:ext cx="5800680" cy="40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76400"/>
                    <a:ext cx="5800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752480" y="24382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96252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276720"/>
            <a:ext cx="914400" cy="0"/>
          </a:xfrm>
          <a:prstGeom prst="line">
            <a:avLst/>
          </a:prstGeom>
          <a:ln w="57240">
            <a:solidFill>
              <a:srgbClr val="2663a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4191120"/>
            <a:ext cx="914400" cy="0"/>
          </a:xfrm>
          <a:prstGeom prst="line">
            <a:avLst/>
          </a:prstGeom>
          <a:ln w="57240">
            <a:solidFill>
              <a:srgbClr val="2663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438280"/>
            <a:ext cx="7617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43828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276720"/>
            <a:ext cx="685800" cy="0"/>
          </a:xfrm>
          <a:prstGeom prst="line">
            <a:avLst/>
          </a:prstGeom>
          <a:ln w="76320">
            <a:solidFill>
              <a:srgbClr val="2663a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276720"/>
            <a:ext cx="914400" cy="0"/>
          </a:xfrm>
          <a:prstGeom prst="line">
            <a:avLst/>
          </a:prstGeom>
          <a:ln w="76320">
            <a:solidFill>
              <a:srgbClr val="2663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双层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去耦电容的考虑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建议使用贴片电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8360" y="2900520"/>
            <a:ext cx="21600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13372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220500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06208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0720" y="2828880"/>
            <a:ext cx="2087640" cy="302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612880"/>
            <a:ext cx="647640" cy="36036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2324160"/>
            <a:ext cx="0" cy="360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2324160"/>
            <a:ext cx="0" cy="360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6560" y="184644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6560" y="177336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560" y="170172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1080" y="1749600"/>
            <a:ext cx="0" cy="129528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1080" y="304488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48000" y="1749600"/>
            <a:ext cx="0" cy="136656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1080" y="311616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7080" y="2108160"/>
            <a:ext cx="0" cy="360036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20720" y="563724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5080" y="5565600"/>
            <a:ext cx="2156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24000" y="2108160"/>
            <a:ext cx="0" cy="360036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20720" y="570852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97080" y="2540160"/>
            <a:ext cx="35892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540160"/>
            <a:ext cx="576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240" y="5492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72880" y="27576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360" y="5753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般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83640" y="2852640"/>
            <a:ext cx="2156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25840" y="208584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25840" y="215748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25840" y="201456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6000" y="2781360"/>
            <a:ext cx="2087640" cy="30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5280" y="2565360"/>
            <a:ext cx="647640" cy="36036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1840" y="1798560"/>
            <a:ext cx="345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1840" y="1725480"/>
            <a:ext cx="345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1840" y="1654200"/>
            <a:ext cx="345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2997360"/>
            <a:ext cx="50328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96360" y="2997360"/>
            <a:ext cx="35856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093080" y="1700280"/>
            <a:ext cx="71280" cy="136836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372360" y="4365720"/>
            <a:ext cx="287280" cy="129528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6000" y="558972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5518080"/>
            <a:ext cx="21600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9640" y="2060640"/>
            <a:ext cx="0" cy="201600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6000" y="566100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18160" y="5445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48160" y="27097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70920" y="573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最佳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未知"/>
          <p:cNvSpPr/>
          <p:nvPr/>
        </p:nvSpPr>
        <p:spPr>
          <a:xfrm>
            <a:off x="6962760" y="2798640"/>
            <a:ext cx="1035000" cy="1544760"/>
          </a:xfrm>
          <a:custGeom>
            <a:avLst/>
            <a:gdLst/>
            <a:ahLst/>
            <a:rect l="l" t="t" r="r" b="b"/>
            <a:pathLst>
              <a:path w="652" h="973">
                <a:moveTo>
                  <a:pt x="606" y="75"/>
                </a:moveTo>
                <a:cubicBezTo>
                  <a:pt x="535" y="0"/>
                  <a:pt x="245" y="55"/>
                  <a:pt x="222" y="56"/>
                </a:cubicBezTo>
                <a:cubicBezTo>
                  <a:pt x="166" y="77"/>
                  <a:pt x="126" y="86"/>
                  <a:pt x="67" y="93"/>
                </a:cubicBezTo>
                <a:cubicBezTo>
                  <a:pt x="0" y="156"/>
                  <a:pt x="30" y="302"/>
                  <a:pt x="21" y="395"/>
                </a:cubicBezTo>
                <a:cubicBezTo>
                  <a:pt x="27" y="544"/>
                  <a:pt x="33" y="694"/>
                  <a:pt x="39" y="843"/>
                </a:cubicBezTo>
                <a:cubicBezTo>
                  <a:pt x="41" y="896"/>
                  <a:pt x="60" y="954"/>
                  <a:pt x="112" y="971"/>
                </a:cubicBezTo>
                <a:cubicBezTo>
                  <a:pt x="133" y="968"/>
                  <a:pt x="158" y="973"/>
                  <a:pt x="176" y="962"/>
                </a:cubicBezTo>
                <a:cubicBezTo>
                  <a:pt x="187" y="955"/>
                  <a:pt x="184" y="938"/>
                  <a:pt x="185" y="925"/>
                </a:cubicBezTo>
                <a:cubicBezTo>
                  <a:pt x="191" y="815"/>
                  <a:pt x="189" y="706"/>
                  <a:pt x="195" y="596"/>
                </a:cubicBezTo>
                <a:cubicBezTo>
                  <a:pt x="198" y="539"/>
                  <a:pt x="231" y="477"/>
                  <a:pt x="249" y="422"/>
                </a:cubicBezTo>
                <a:cubicBezTo>
                  <a:pt x="265" y="372"/>
                  <a:pt x="278" y="320"/>
                  <a:pt x="332" y="303"/>
                </a:cubicBezTo>
                <a:cubicBezTo>
                  <a:pt x="376" y="273"/>
                  <a:pt x="436" y="257"/>
                  <a:pt x="487" y="239"/>
                </a:cubicBezTo>
                <a:cubicBezTo>
                  <a:pt x="547" y="218"/>
                  <a:pt x="502" y="227"/>
                  <a:pt x="551" y="203"/>
                </a:cubicBezTo>
                <a:cubicBezTo>
                  <a:pt x="589" y="184"/>
                  <a:pt x="619" y="179"/>
                  <a:pt x="652" y="148"/>
                </a:cubicBezTo>
                <a:cubicBezTo>
                  <a:pt x="651" y="145"/>
                  <a:pt x="636" y="96"/>
                  <a:pt x="633" y="93"/>
                </a:cubicBezTo>
                <a:cubicBezTo>
                  <a:pt x="603" y="64"/>
                  <a:pt x="606" y="100"/>
                  <a:pt x="606" y="7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未知"/>
          <p:cNvSpPr/>
          <p:nvPr/>
        </p:nvSpPr>
        <p:spPr>
          <a:xfrm>
            <a:off x="5607000" y="4021200"/>
            <a:ext cx="1182600" cy="1803240"/>
          </a:xfrm>
          <a:custGeom>
            <a:avLst/>
            <a:gdLst/>
            <a:ahLst/>
            <a:rect l="l" t="t" r="r" b="b"/>
            <a:pathLst>
              <a:path w="745" h="1136">
                <a:moveTo>
                  <a:pt x="665" y="0"/>
                </a:moveTo>
                <a:cubicBezTo>
                  <a:pt x="653" y="2"/>
                  <a:pt x="606" y="10"/>
                  <a:pt x="591" y="18"/>
                </a:cubicBezTo>
                <a:cubicBezTo>
                  <a:pt x="572" y="28"/>
                  <a:pt x="537" y="54"/>
                  <a:pt x="537" y="54"/>
                </a:cubicBezTo>
                <a:cubicBezTo>
                  <a:pt x="516" y="113"/>
                  <a:pt x="519" y="176"/>
                  <a:pt x="509" y="237"/>
                </a:cubicBezTo>
                <a:cubicBezTo>
                  <a:pt x="501" y="288"/>
                  <a:pt x="483" y="312"/>
                  <a:pt x="454" y="356"/>
                </a:cubicBezTo>
                <a:cubicBezTo>
                  <a:pt x="427" y="396"/>
                  <a:pt x="426" y="441"/>
                  <a:pt x="390" y="475"/>
                </a:cubicBezTo>
                <a:cubicBezTo>
                  <a:pt x="369" y="540"/>
                  <a:pt x="383" y="514"/>
                  <a:pt x="354" y="557"/>
                </a:cubicBezTo>
                <a:cubicBezTo>
                  <a:pt x="329" y="635"/>
                  <a:pt x="280" y="714"/>
                  <a:pt x="198" y="740"/>
                </a:cubicBezTo>
                <a:cubicBezTo>
                  <a:pt x="153" y="770"/>
                  <a:pt x="176" y="750"/>
                  <a:pt x="134" y="813"/>
                </a:cubicBezTo>
                <a:cubicBezTo>
                  <a:pt x="128" y="822"/>
                  <a:pt x="122" y="832"/>
                  <a:pt x="116" y="841"/>
                </a:cubicBezTo>
                <a:cubicBezTo>
                  <a:pt x="110" y="850"/>
                  <a:pt x="98" y="868"/>
                  <a:pt x="98" y="868"/>
                </a:cubicBezTo>
                <a:cubicBezTo>
                  <a:pt x="95" y="880"/>
                  <a:pt x="95" y="894"/>
                  <a:pt x="89" y="905"/>
                </a:cubicBezTo>
                <a:cubicBezTo>
                  <a:pt x="85" y="913"/>
                  <a:pt x="74" y="915"/>
                  <a:pt x="70" y="923"/>
                </a:cubicBezTo>
                <a:cubicBezTo>
                  <a:pt x="31" y="999"/>
                  <a:pt x="97" y="924"/>
                  <a:pt x="34" y="987"/>
                </a:cubicBezTo>
                <a:cubicBezTo>
                  <a:pt x="27" y="1008"/>
                  <a:pt x="0" y="1053"/>
                  <a:pt x="25" y="1078"/>
                </a:cubicBezTo>
                <a:cubicBezTo>
                  <a:pt x="34" y="1087"/>
                  <a:pt x="49" y="1085"/>
                  <a:pt x="61" y="1088"/>
                </a:cubicBezTo>
                <a:cubicBezTo>
                  <a:pt x="136" y="1136"/>
                  <a:pt x="84" y="1111"/>
                  <a:pt x="262" y="1097"/>
                </a:cubicBezTo>
                <a:cubicBezTo>
                  <a:pt x="358" y="1090"/>
                  <a:pt x="463" y="1072"/>
                  <a:pt x="555" y="1042"/>
                </a:cubicBezTo>
                <a:cubicBezTo>
                  <a:pt x="569" y="1000"/>
                  <a:pt x="568" y="956"/>
                  <a:pt x="582" y="914"/>
                </a:cubicBezTo>
                <a:cubicBezTo>
                  <a:pt x="592" y="851"/>
                  <a:pt x="614" y="799"/>
                  <a:pt x="637" y="740"/>
                </a:cubicBezTo>
                <a:cubicBezTo>
                  <a:pt x="662" y="676"/>
                  <a:pt x="679" y="606"/>
                  <a:pt x="692" y="539"/>
                </a:cubicBezTo>
                <a:cubicBezTo>
                  <a:pt x="690" y="419"/>
                  <a:pt x="745" y="159"/>
                  <a:pt x="665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88000" y="4005360"/>
            <a:ext cx="216000" cy="431640"/>
          </a:xfrm>
          <a:prstGeom prst="rect">
            <a:avLst/>
          </a:prstGeom>
          <a:solidFill>
            <a:srgbClr val="000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04000" y="4005360"/>
            <a:ext cx="2160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20000" y="4005360"/>
            <a:ext cx="216000" cy="431640"/>
          </a:xfrm>
          <a:prstGeom prst="rect">
            <a:avLst/>
          </a:prstGeom>
          <a:solidFill>
            <a:srgbClr val="0000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164000" y="1700280"/>
            <a:ext cx="71640" cy="136836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8000" y="2060640"/>
            <a:ext cx="0" cy="201600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708360" y="3043080"/>
            <a:ext cx="21600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56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错误的去耦电容放置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20720" y="2971800"/>
            <a:ext cx="2087640" cy="302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40000" y="2755800"/>
            <a:ext cx="647640" cy="36036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971640" y="198900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971640" y="177336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148608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6560" y="141300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134136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19640" y="1484280"/>
            <a:ext cx="1440" cy="17035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1080" y="318780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1484280"/>
            <a:ext cx="0" cy="177480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325908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97080" y="2251080"/>
            <a:ext cx="0" cy="360036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20720" y="578016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05080" y="5708520"/>
            <a:ext cx="2156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24000" y="2251080"/>
            <a:ext cx="0" cy="360036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20720" y="585144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258920" y="1989000"/>
            <a:ext cx="0" cy="21600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258920" y="141264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240" y="56358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3800" y="2924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54920" y="2347920"/>
            <a:ext cx="21600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7480" y="573408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7480" y="580536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97480" y="566244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276640"/>
            <a:ext cx="2087640" cy="30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86560" y="2060640"/>
            <a:ext cx="647640" cy="360360"/>
          </a:xfrm>
          <a:prstGeom prst="ellipse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2560" y="1771560"/>
            <a:ext cx="0" cy="360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18200" y="1771560"/>
            <a:ext cx="0" cy="3603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13120" y="129384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13120" y="126828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13120" y="1197000"/>
            <a:ext cx="3457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197000"/>
            <a:ext cx="0" cy="129528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67640" y="249228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94560" y="1197000"/>
            <a:ext cx="0" cy="13669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67640" y="2563920"/>
            <a:ext cx="3589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443640" y="5155920"/>
            <a:ext cx="0" cy="57780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508464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5013360"/>
            <a:ext cx="21564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370200" y="5156280"/>
            <a:ext cx="1800" cy="50472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5156280"/>
            <a:ext cx="503280" cy="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43640" y="1987560"/>
            <a:ext cx="35892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8200" y="1987560"/>
            <a:ext cx="576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89800" y="49402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9440" y="2205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16360" y="162864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0028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6360" y="155736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443640" y="1557000"/>
            <a:ext cx="1440" cy="43164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372360" y="1557000"/>
            <a:ext cx="0" cy="431640"/>
          </a:xfrm>
          <a:prstGeom prst="line">
            <a:avLst/>
          </a:prstGeom>
          <a:ln w="763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08400" y="578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正确的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220500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227664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2133720"/>
            <a:ext cx="3673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去耦电容的放置和连接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95280" y="1022400"/>
            <a:ext cx="84596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电源去耦技术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ecoupling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82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目的：把芯片产生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控制在最小的区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去耦频率和电容值（贴片电容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几十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Hz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及以下，电解电容【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uF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几十至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300MHz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，每个供电组一个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.1 / 0.01uF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300MHz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以上，电源层和地层的等效阵列电容，几十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F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；或者在产生高频干扰的芯片上并接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F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级的滤波电容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去耦电容布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就近连接原则：尽可能靠近芯片【除低频滤波外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最佳位置：焊接面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分层考虑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元件面、焊接面：敏感信号线及总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方便调测，易于控制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一般建议：元件面布放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层、倒数第二层：地／电源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保证元件面和焊接面敏感信号线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板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/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置主要信号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板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G/S2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/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S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信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板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S2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/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3/S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适合于：电源种类少，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1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4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能大面积敷铜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板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G/S2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/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3/G/S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98800" y="3716280"/>
            <a:ext cx="5245200" cy="23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多层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的层间电容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厚度一般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m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2mi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金属铜皮的厚度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u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mi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间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mi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夹层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材料，则每平方英寸电源层的等效电容约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pF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间距越小电容越大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75160" y="4005360"/>
            <a:ext cx="345600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16360" y="5950080"/>
            <a:ext cx="3168720" cy="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97560" y="5445000"/>
            <a:ext cx="3143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46440" y="4437000"/>
            <a:ext cx="3384720" cy="0"/>
          </a:xfrm>
          <a:prstGeom prst="line">
            <a:avLst/>
          </a:prstGeom>
          <a:ln w="76320">
            <a:solidFill>
              <a:srgbClr val="00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46440" y="4005360"/>
            <a:ext cx="3529080" cy="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43840" y="3927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6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53560" y="42670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75520" y="5157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75520" y="55166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6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70840" y="4724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44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24000" y="46530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c"/>
                </a:solidFill>
                <a:latin typeface="华文细黑"/>
                <a:ea typeface="华文细黑"/>
              </a:rPr>
              <a:t>4</a:t>
            </a:r>
            <a:r>
              <a:rPr b="0" lang="zh-CN" sz="2800" spc="-1" strike="noStrike">
                <a:solidFill>
                  <a:srgbClr val="00000c"/>
                </a:solidFill>
                <a:latin typeface="华文细黑"/>
                <a:ea typeface="华文细黑"/>
              </a:rPr>
              <a:t>层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34923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层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层板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G/S2/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/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/S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信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1700280"/>
            <a:ext cx="784872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2533680"/>
            <a:ext cx="5043600" cy="318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55760" y="5715000"/>
            <a:ext cx="4624560" cy="144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44880" y="4579920"/>
            <a:ext cx="45878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13120" y="3068640"/>
            <a:ext cx="4938480" cy="1440"/>
          </a:xfrm>
          <a:prstGeom prst="line">
            <a:avLst/>
          </a:prstGeom>
          <a:ln w="76320">
            <a:solidFill>
              <a:srgbClr val="00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01960" y="2533680"/>
            <a:ext cx="4730760" cy="3168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25640" y="2565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&lt;10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31120" y="28526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31120" y="47242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97280" y="50846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&lt;10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45560" y="18446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c"/>
                </a:solidFill>
                <a:latin typeface="华文细黑"/>
                <a:ea typeface="华文细黑"/>
              </a:rPr>
              <a:t>6</a:t>
            </a:r>
            <a:r>
              <a:rPr b="0" lang="zh-CN" sz="2800" spc="-1" strike="noStrike">
                <a:solidFill>
                  <a:srgbClr val="00000c"/>
                </a:solidFill>
                <a:latin typeface="华文细黑"/>
                <a:ea typeface="华文细黑"/>
              </a:rPr>
              <a:t>层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25720" y="5156280"/>
            <a:ext cx="4938480" cy="1440"/>
          </a:xfrm>
          <a:prstGeom prst="line">
            <a:avLst/>
          </a:prstGeom>
          <a:ln w="76320">
            <a:solidFill>
              <a:srgbClr val="00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16000" y="3789360"/>
            <a:ext cx="4788000" cy="1440"/>
          </a:xfrm>
          <a:prstGeom prst="line">
            <a:avLst/>
          </a:prstGeom>
          <a:ln w="7632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25640" y="46274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&lt;10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10600" y="42670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5640" y="328464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&gt;10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25640" y="39337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&gt;10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31120" y="3573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c"/>
                </a:solidFill>
                <a:latin typeface="Times New Roman"/>
              </a:rPr>
              <a:t>2m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33440" y="220500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3440" y="350028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33440" y="5373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S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30480" y="29973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G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89080" y="47242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G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0824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分层考虑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42051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源层旁边安排一个完整的地层，滤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MHz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上的干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024000" cy="25606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3708360" cy="25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电容并联时避免反谐振点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02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835280" y="2525760"/>
            <a:ext cx="7200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多层板去耦电容的分工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42160" cy="4591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16000" y="3933720"/>
            <a:ext cx="1800360" cy="505080"/>
          </a:xfrm>
          <a:prstGeom prst="wedgeRoundRectCallout">
            <a:avLst>
              <a:gd name="adj1" fmla="val 32629"/>
              <a:gd name="adj2" fmla="val -132074"/>
              <a:gd name="adj3" fmla="val 16667"/>
            </a:avLst>
          </a:prstGeom>
          <a:noFill/>
          <a:ln w="936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c"/>
                </a:solidFill>
                <a:latin typeface="Times New Roman"/>
              </a:rPr>
              <a:t>电解电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4724280"/>
            <a:ext cx="2519640" cy="576360"/>
          </a:xfrm>
          <a:prstGeom prst="wedgeRoundRectCallout">
            <a:avLst>
              <a:gd name="adj1" fmla="val -46347"/>
              <a:gd name="adj2" fmla="val -254407"/>
              <a:gd name="adj3" fmla="val 16667"/>
            </a:avLst>
          </a:prstGeom>
          <a:noFill/>
          <a:ln w="2844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高频滤波电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93080" y="2997360"/>
            <a:ext cx="1620720" cy="1008000"/>
          </a:xfrm>
          <a:prstGeom prst="wedgeRoundRectCallout">
            <a:avLst>
              <a:gd name="adj1" fmla="val -48921"/>
              <a:gd name="adj2" fmla="val -82754"/>
              <a:gd name="adj3" fmla="val 16667"/>
            </a:avLst>
          </a:prstGeom>
          <a:noFill/>
          <a:ln w="2844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/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效电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连接器上的电流回流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1125360"/>
          <a:ext cx="8280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80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被忘记”滤除的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415MHz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971640" y="1046160"/>
            <a:ext cx="70563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典型案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067280" y="2133720"/>
            <a:ext cx="4924080" cy="4031640"/>
            <a:chOff x="4067280" y="2133720"/>
            <a:chExt cx="4924080" cy="4031640"/>
          </a:xfrm>
        </p:grpSpPr>
        <p:sp>
          <p:nvSpPr>
            <p:cNvPr id="446" name=""/>
            <p:cNvSpPr/>
            <p:nvPr/>
          </p:nvSpPr>
          <p:spPr>
            <a:xfrm>
              <a:off x="7505280" y="3673080"/>
              <a:ext cx="1114920" cy="1172880"/>
            </a:xfrm>
            <a:prstGeom prst="upDownArrow">
              <a:avLst>
                <a:gd name="adj1" fmla="val 65278"/>
                <a:gd name="adj2" fmla="val 36318"/>
              </a:avLst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67280" y="3673080"/>
              <a:ext cx="4831560" cy="659520"/>
            </a:xfrm>
            <a:prstGeom prst="rect">
              <a:avLst/>
            </a:prstGeom>
            <a:solidFill>
              <a:srgbClr val="2663a0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背板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ackpla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75760" y="4845960"/>
              <a:ext cx="2415600" cy="1319400"/>
            </a:xfrm>
            <a:prstGeom prst="rect">
              <a:avLst/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接口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nterface Car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12040" y="2133720"/>
              <a:ext cx="1300320" cy="1539360"/>
            </a:xfrm>
            <a:prstGeom prst="upDownArrow">
              <a:avLst>
                <a:gd name="adj1" fmla="val 50000"/>
                <a:gd name="adj2" fmla="val 23676"/>
              </a:avLst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电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67280" y="4845960"/>
              <a:ext cx="2136600" cy="1319400"/>
            </a:xfrm>
            <a:prstGeom prst="rect">
              <a:avLst/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控制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P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38800" y="4332600"/>
              <a:ext cx="1300320" cy="513000"/>
            </a:xfrm>
            <a:prstGeom prst="upDownArrow">
              <a:avLst>
                <a:gd name="adj1" fmla="val 50000"/>
                <a:gd name="adj2" fmla="val 20000"/>
              </a:avLst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75760" y="4332600"/>
              <a:ext cx="743040" cy="513000"/>
            </a:xfrm>
            <a:prstGeom prst="upDownArrow">
              <a:avLst>
                <a:gd name="adj1" fmla="val 35120"/>
                <a:gd name="adj2" fmla="val 32440"/>
              </a:avLst>
            </a:prstGeom>
            <a:solidFill>
              <a:srgbClr val="2663a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08000" y="3645000"/>
            <a:ext cx="504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细定位及排查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扫描控制板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找到干扰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采取手段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控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传播途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监视电缆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变化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112536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现象：电缆产生很大辐射，导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测试失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170028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粗定位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SC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测量电缆辐射并实时监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拔掉接口板，发现电缆上辐射没有明显变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结论：辐射源在控制板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一个电容解决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EMC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09880" cy="2611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3809880" cy="26254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800600" y="2438280"/>
            <a:ext cx="4191120" cy="29894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43592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修改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88200" y="5430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修改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44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修改前后差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99320" y="12193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进措施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干扰源产生位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增加电源滤波电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5640" y="182880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未知"/>
          <p:cNvSpPr/>
          <p:nvPr/>
        </p:nvSpPr>
        <p:spPr>
          <a:xfrm>
            <a:off x="679320" y="2346480"/>
            <a:ext cx="2301840" cy="1137960"/>
          </a:xfrm>
          <a:custGeom>
            <a:avLst/>
            <a:gdLst/>
            <a:ahLst/>
            <a:rect l="l" t="t" r="r" b="b"/>
            <a:pathLst>
              <a:path w="1450" h="717">
                <a:moveTo>
                  <a:pt x="56" y="242"/>
                </a:moveTo>
                <a:cubicBezTo>
                  <a:pt x="64" y="245"/>
                  <a:pt x="75" y="244"/>
                  <a:pt x="81" y="250"/>
                </a:cubicBezTo>
                <a:cubicBezTo>
                  <a:pt x="95" y="264"/>
                  <a:pt x="115" y="300"/>
                  <a:pt x="115" y="300"/>
                </a:cubicBezTo>
                <a:cubicBezTo>
                  <a:pt x="138" y="372"/>
                  <a:pt x="173" y="433"/>
                  <a:pt x="206" y="500"/>
                </a:cubicBezTo>
                <a:cubicBezTo>
                  <a:pt x="218" y="524"/>
                  <a:pt x="217" y="557"/>
                  <a:pt x="240" y="576"/>
                </a:cubicBezTo>
                <a:cubicBezTo>
                  <a:pt x="260" y="593"/>
                  <a:pt x="298" y="609"/>
                  <a:pt x="323" y="617"/>
                </a:cubicBezTo>
                <a:cubicBezTo>
                  <a:pt x="421" y="684"/>
                  <a:pt x="551" y="690"/>
                  <a:pt x="666" y="717"/>
                </a:cubicBezTo>
                <a:cubicBezTo>
                  <a:pt x="777" y="711"/>
                  <a:pt x="874" y="697"/>
                  <a:pt x="983" y="684"/>
                </a:cubicBezTo>
                <a:cubicBezTo>
                  <a:pt x="1021" y="672"/>
                  <a:pt x="1057" y="673"/>
                  <a:pt x="1091" y="651"/>
                </a:cubicBezTo>
                <a:cubicBezTo>
                  <a:pt x="1102" y="620"/>
                  <a:pt x="1115" y="594"/>
                  <a:pt x="1133" y="567"/>
                </a:cubicBezTo>
                <a:cubicBezTo>
                  <a:pt x="1147" y="523"/>
                  <a:pt x="1157" y="480"/>
                  <a:pt x="1183" y="442"/>
                </a:cubicBezTo>
                <a:cubicBezTo>
                  <a:pt x="1197" y="398"/>
                  <a:pt x="1249" y="373"/>
                  <a:pt x="1292" y="359"/>
                </a:cubicBezTo>
                <a:cubicBezTo>
                  <a:pt x="1309" y="348"/>
                  <a:pt x="1328" y="339"/>
                  <a:pt x="1342" y="325"/>
                </a:cubicBezTo>
                <a:cubicBezTo>
                  <a:pt x="1367" y="300"/>
                  <a:pt x="1380" y="277"/>
                  <a:pt x="1409" y="258"/>
                </a:cubicBezTo>
                <a:cubicBezTo>
                  <a:pt x="1412" y="250"/>
                  <a:pt x="1413" y="241"/>
                  <a:pt x="1417" y="233"/>
                </a:cubicBezTo>
                <a:cubicBezTo>
                  <a:pt x="1422" y="224"/>
                  <a:pt x="1430" y="217"/>
                  <a:pt x="1434" y="208"/>
                </a:cubicBezTo>
                <a:cubicBezTo>
                  <a:pt x="1442" y="190"/>
                  <a:pt x="1444" y="169"/>
                  <a:pt x="1450" y="150"/>
                </a:cubicBezTo>
                <a:cubicBezTo>
                  <a:pt x="1440" y="108"/>
                  <a:pt x="1437" y="72"/>
                  <a:pt x="1392" y="58"/>
                </a:cubicBezTo>
                <a:cubicBezTo>
                  <a:pt x="1351" y="17"/>
                  <a:pt x="1308" y="23"/>
                  <a:pt x="1250" y="16"/>
                </a:cubicBezTo>
                <a:cubicBezTo>
                  <a:pt x="1210" y="6"/>
                  <a:pt x="1180" y="11"/>
                  <a:pt x="1141" y="25"/>
                </a:cubicBezTo>
                <a:cubicBezTo>
                  <a:pt x="1115" y="51"/>
                  <a:pt x="1097" y="79"/>
                  <a:pt x="1066" y="100"/>
                </a:cubicBezTo>
                <a:cubicBezTo>
                  <a:pt x="1047" y="130"/>
                  <a:pt x="1028" y="148"/>
                  <a:pt x="999" y="167"/>
                </a:cubicBezTo>
                <a:cubicBezTo>
                  <a:pt x="972" y="209"/>
                  <a:pt x="991" y="187"/>
                  <a:pt x="933" y="225"/>
                </a:cubicBezTo>
                <a:cubicBezTo>
                  <a:pt x="891" y="252"/>
                  <a:pt x="854" y="301"/>
                  <a:pt x="807" y="317"/>
                </a:cubicBezTo>
                <a:cubicBezTo>
                  <a:pt x="731" y="312"/>
                  <a:pt x="669" y="314"/>
                  <a:pt x="599" y="292"/>
                </a:cubicBezTo>
                <a:cubicBezTo>
                  <a:pt x="591" y="284"/>
                  <a:pt x="583" y="274"/>
                  <a:pt x="574" y="267"/>
                </a:cubicBezTo>
                <a:cubicBezTo>
                  <a:pt x="558" y="255"/>
                  <a:pt x="524" y="233"/>
                  <a:pt x="524" y="233"/>
                </a:cubicBezTo>
                <a:cubicBezTo>
                  <a:pt x="518" y="225"/>
                  <a:pt x="515" y="214"/>
                  <a:pt x="507" y="208"/>
                </a:cubicBezTo>
                <a:cubicBezTo>
                  <a:pt x="500" y="203"/>
                  <a:pt x="488" y="206"/>
                  <a:pt x="482" y="200"/>
                </a:cubicBezTo>
                <a:cubicBezTo>
                  <a:pt x="453" y="171"/>
                  <a:pt x="438" y="124"/>
                  <a:pt x="415" y="91"/>
                </a:cubicBezTo>
                <a:cubicBezTo>
                  <a:pt x="403" y="52"/>
                  <a:pt x="379" y="12"/>
                  <a:pt x="340" y="0"/>
                </a:cubicBezTo>
                <a:cubicBezTo>
                  <a:pt x="295" y="9"/>
                  <a:pt x="250" y="19"/>
                  <a:pt x="206" y="33"/>
                </a:cubicBezTo>
                <a:cubicBezTo>
                  <a:pt x="135" y="80"/>
                  <a:pt x="105" y="83"/>
                  <a:pt x="14" y="91"/>
                </a:cubicBezTo>
                <a:cubicBezTo>
                  <a:pt x="0" y="133"/>
                  <a:pt x="12" y="168"/>
                  <a:pt x="48" y="192"/>
                </a:cubicBezTo>
                <a:cubicBezTo>
                  <a:pt x="52" y="204"/>
                  <a:pt x="76" y="242"/>
                  <a:pt x="56" y="242"/>
                </a:cubicBezTo>
                <a:close/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2057400"/>
            <a:ext cx="15228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4572000"/>
            <a:ext cx="15228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3733920"/>
            <a:ext cx="152640" cy="761760"/>
          </a:xfrm>
          <a:prstGeom prst="rect">
            <a:avLst/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其他电源滤波技术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数字电路具有非常丰富的谐波，很容易干扰其他电路【模拟电路，射频电路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确使用电感和磁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556000" y="2276640"/>
            <a:ext cx="0" cy="1081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2276640"/>
            <a:ext cx="540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3860640"/>
            <a:ext cx="38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混合电路电源滤波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数字电路的电源和地，一般需要单独设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22920" y="3645000"/>
            <a:ext cx="266544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数字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22920" y="1844640"/>
            <a:ext cx="2665440" cy="165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模拟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48000" y="206064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5587920"/>
            <a:ext cx="5472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容组，包括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u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.1u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7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79640" y="2565360"/>
            <a:ext cx="1152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容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48000" y="3645000"/>
            <a:ext cx="6476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3357720"/>
            <a:ext cx="53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1480" y="3141720"/>
            <a:ext cx="57780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1280" y="5013360"/>
            <a:ext cx="511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41480" y="4797360"/>
            <a:ext cx="57780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3357720"/>
            <a:ext cx="0" cy="1655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1960" y="181440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35280" y="2276640"/>
            <a:ext cx="0" cy="158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3280" y="2276640"/>
            <a:ext cx="0" cy="10810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3860640"/>
            <a:ext cx="0" cy="1152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56000" y="3860640"/>
            <a:ext cx="0" cy="1152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4076640"/>
            <a:ext cx="1224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容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68720" y="4149720"/>
            <a:ext cx="122400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容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67280" y="2565360"/>
            <a:ext cx="1152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容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8520" y="2801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混合电路的布线区域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区分数字区域和模拟区域，音频电路区域、功率放大区域、射频区域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各区域的信号线只能在本区域内布，如数字区域布数字信号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复位信号、以及控制其他芯片的睡眠信号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信号等，频率低，但是含有纹波信号【存在大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I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信号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地敷铜时，数字地在数字区域敷铜，尽可能覆盖全部数字区域，其他区域类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 flipV="1">
            <a:off x="8170920" y="2852280"/>
            <a:ext cx="0" cy="2519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区域划分实例【汽车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VD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93840" y="2205000"/>
            <a:ext cx="12970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模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器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3280" y="3139920"/>
            <a:ext cx="2519640" cy="151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数字</a:t>
            </a: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模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混合器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43280" y="3355920"/>
            <a:ext cx="2876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80360" y="5372280"/>
            <a:ext cx="129528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存储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78560" y="3139920"/>
            <a:ext cx="1441440" cy="151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Times New Roman"/>
              </a:rPr>
              <a:t>C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78560" y="2131920"/>
            <a:ext cx="144144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锁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4560" y="4508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354200" y="2492280"/>
            <a:ext cx="302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54560" y="2492280"/>
            <a:ext cx="0" cy="201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162920" y="378936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未知"/>
          <p:cNvSpPr/>
          <p:nvPr/>
        </p:nvSpPr>
        <p:spPr>
          <a:xfrm>
            <a:off x="3475080" y="2629080"/>
            <a:ext cx="1160280" cy="1015920"/>
          </a:xfrm>
          <a:custGeom>
            <a:avLst/>
            <a:gdLst/>
            <a:ahLst/>
            <a:rect l="l" t="t" r="r" b="b"/>
            <a:pathLst>
              <a:path w="731" h="640">
                <a:moveTo>
                  <a:pt x="0" y="0"/>
                </a:moveTo>
                <a:cubicBezTo>
                  <a:pt x="100" y="50"/>
                  <a:pt x="59" y="36"/>
                  <a:pt x="119" y="55"/>
                </a:cubicBezTo>
                <a:cubicBezTo>
                  <a:pt x="198" y="107"/>
                  <a:pt x="84" y="27"/>
                  <a:pt x="174" y="110"/>
                </a:cubicBezTo>
                <a:cubicBezTo>
                  <a:pt x="175" y="111"/>
                  <a:pt x="297" y="205"/>
                  <a:pt x="311" y="219"/>
                </a:cubicBezTo>
                <a:cubicBezTo>
                  <a:pt x="410" y="319"/>
                  <a:pt x="513" y="416"/>
                  <a:pt x="603" y="521"/>
                </a:cubicBezTo>
                <a:cubicBezTo>
                  <a:pt x="631" y="553"/>
                  <a:pt x="731" y="605"/>
                  <a:pt x="731" y="64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未知"/>
          <p:cNvSpPr/>
          <p:nvPr/>
        </p:nvSpPr>
        <p:spPr>
          <a:xfrm>
            <a:off x="3490920" y="2917800"/>
            <a:ext cx="1160280" cy="1015920"/>
          </a:xfrm>
          <a:custGeom>
            <a:avLst/>
            <a:gdLst/>
            <a:ahLst/>
            <a:rect l="l" t="t" r="r" b="b"/>
            <a:pathLst>
              <a:path w="731" h="640">
                <a:moveTo>
                  <a:pt x="0" y="0"/>
                </a:moveTo>
                <a:cubicBezTo>
                  <a:pt x="100" y="50"/>
                  <a:pt x="59" y="36"/>
                  <a:pt x="119" y="55"/>
                </a:cubicBezTo>
                <a:cubicBezTo>
                  <a:pt x="198" y="107"/>
                  <a:pt x="84" y="27"/>
                  <a:pt x="174" y="110"/>
                </a:cubicBezTo>
                <a:cubicBezTo>
                  <a:pt x="175" y="111"/>
                  <a:pt x="297" y="205"/>
                  <a:pt x="311" y="219"/>
                </a:cubicBezTo>
                <a:cubicBezTo>
                  <a:pt x="410" y="319"/>
                  <a:pt x="513" y="416"/>
                  <a:pt x="603" y="521"/>
                </a:cubicBezTo>
                <a:cubicBezTo>
                  <a:pt x="631" y="553"/>
                  <a:pt x="731" y="605"/>
                  <a:pt x="731" y="64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3490920" y="2781360"/>
            <a:ext cx="1160280" cy="1015920"/>
          </a:xfrm>
          <a:custGeom>
            <a:avLst/>
            <a:gdLst/>
            <a:ahLst/>
            <a:rect l="l" t="t" r="r" b="b"/>
            <a:pathLst>
              <a:path w="731" h="640">
                <a:moveTo>
                  <a:pt x="0" y="0"/>
                </a:moveTo>
                <a:cubicBezTo>
                  <a:pt x="100" y="50"/>
                  <a:pt x="59" y="36"/>
                  <a:pt x="119" y="55"/>
                </a:cubicBezTo>
                <a:cubicBezTo>
                  <a:pt x="198" y="107"/>
                  <a:pt x="84" y="27"/>
                  <a:pt x="174" y="110"/>
                </a:cubicBezTo>
                <a:cubicBezTo>
                  <a:pt x="175" y="111"/>
                  <a:pt x="297" y="205"/>
                  <a:pt x="311" y="219"/>
                </a:cubicBezTo>
                <a:cubicBezTo>
                  <a:pt x="410" y="319"/>
                  <a:pt x="513" y="416"/>
                  <a:pt x="603" y="521"/>
                </a:cubicBezTo>
                <a:cubicBezTo>
                  <a:pt x="631" y="553"/>
                  <a:pt x="731" y="605"/>
                  <a:pt x="731" y="64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未知"/>
          <p:cNvSpPr/>
          <p:nvPr/>
        </p:nvSpPr>
        <p:spPr>
          <a:xfrm>
            <a:off x="3490920" y="3068640"/>
            <a:ext cx="1160280" cy="1015920"/>
          </a:xfrm>
          <a:custGeom>
            <a:avLst/>
            <a:gdLst/>
            <a:ahLst/>
            <a:rect l="l" t="t" r="r" b="b"/>
            <a:pathLst>
              <a:path w="731" h="640">
                <a:moveTo>
                  <a:pt x="0" y="0"/>
                </a:moveTo>
                <a:cubicBezTo>
                  <a:pt x="100" y="50"/>
                  <a:pt x="59" y="36"/>
                  <a:pt x="119" y="55"/>
                </a:cubicBezTo>
                <a:cubicBezTo>
                  <a:pt x="198" y="107"/>
                  <a:pt x="84" y="27"/>
                  <a:pt x="174" y="110"/>
                </a:cubicBezTo>
                <a:cubicBezTo>
                  <a:pt x="175" y="111"/>
                  <a:pt x="297" y="205"/>
                  <a:pt x="311" y="219"/>
                </a:cubicBezTo>
                <a:cubicBezTo>
                  <a:pt x="410" y="319"/>
                  <a:pt x="513" y="416"/>
                  <a:pt x="603" y="521"/>
                </a:cubicBezTo>
                <a:cubicBezTo>
                  <a:pt x="631" y="553"/>
                  <a:pt x="731" y="605"/>
                  <a:pt x="731" y="64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未知"/>
          <p:cNvSpPr/>
          <p:nvPr/>
        </p:nvSpPr>
        <p:spPr>
          <a:xfrm>
            <a:off x="3490920" y="3213000"/>
            <a:ext cx="1160280" cy="1016280"/>
          </a:xfrm>
          <a:custGeom>
            <a:avLst/>
            <a:gdLst/>
            <a:ahLst/>
            <a:rect l="l" t="t" r="r" b="b"/>
            <a:pathLst>
              <a:path w="731" h="640">
                <a:moveTo>
                  <a:pt x="0" y="0"/>
                </a:moveTo>
                <a:cubicBezTo>
                  <a:pt x="100" y="50"/>
                  <a:pt x="59" y="36"/>
                  <a:pt x="119" y="55"/>
                </a:cubicBezTo>
                <a:cubicBezTo>
                  <a:pt x="198" y="107"/>
                  <a:pt x="84" y="27"/>
                  <a:pt x="174" y="110"/>
                </a:cubicBezTo>
                <a:cubicBezTo>
                  <a:pt x="175" y="111"/>
                  <a:pt x="297" y="205"/>
                  <a:pt x="311" y="219"/>
                </a:cubicBezTo>
                <a:cubicBezTo>
                  <a:pt x="410" y="319"/>
                  <a:pt x="513" y="416"/>
                  <a:pt x="603" y="521"/>
                </a:cubicBezTo>
                <a:cubicBezTo>
                  <a:pt x="631" y="553"/>
                  <a:pt x="731" y="605"/>
                  <a:pt x="731" y="64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07960" y="3352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18440" y="2008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睡眠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未知"/>
          <p:cNvSpPr/>
          <p:nvPr/>
        </p:nvSpPr>
        <p:spPr>
          <a:xfrm>
            <a:off x="3127320" y="3468600"/>
            <a:ext cx="1523880" cy="1089000"/>
          </a:xfrm>
          <a:custGeom>
            <a:avLst/>
            <a:gdLst/>
            <a:ahLst/>
            <a:rect l="l" t="t" r="r" b="b"/>
            <a:pathLst>
              <a:path w="960" h="686">
                <a:moveTo>
                  <a:pt x="0" y="0"/>
                </a:moveTo>
                <a:cubicBezTo>
                  <a:pt x="3" y="67"/>
                  <a:pt x="2" y="134"/>
                  <a:pt x="9" y="201"/>
                </a:cubicBezTo>
                <a:cubicBezTo>
                  <a:pt x="13" y="236"/>
                  <a:pt x="35" y="285"/>
                  <a:pt x="45" y="320"/>
                </a:cubicBezTo>
                <a:cubicBezTo>
                  <a:pt x="57" y="364"/>
                  <a:pt x="66" y="415"/>
                  <a:pt x="82" y="457"/>
                </a:cubicBezTo>
                <a:cubicBezTo>
                  <a:pt x="93" y="486"/>
                  <a:pt x="109" y="489"/>
                  <a:pt x="128" y="512"/>
                </a:cubicBezTo>
                <a:cubicBezTo>
                  <a:pt x="159" y="549"/>
                  <a:pt x="136" y="529"/>
                  <a:pt x="155" y="567"/>
                </a:cubicBezTo>
                <a:cubicBezTo>
                  <a:pt x="170" y="597"/>
                  <a:pt x="195" y="616"/>
                  <a:pt x="219" y="640"/>
                </a:cubicBezTo>
                <a:cubicBezTo>
                  <a:pt x="234" y="655"/>
                  <a:pt x="362" y="682"/>
                  <a:pt x="384" y="686"/>
                </a:cubicBezTo>
                <a:cubicBezTo>
                  <a:pt x="460" y="680"/>
                  <a:pt x="512" y="669"/>
                  <a:pt x="585" y="658"/>
                </a:cubicBezTo>
                <a:cubicBezTo>
                  <a:pt x="603" y="646"/>
                  <a:pt x="622" y="634"/>
                  <a:pt x="640" y="622"/>
                </a:cubicBezTo>
                <a:cubicBezTo>
                  <a:pt x="649" y="616"/>
                  <a:pt x="649" y="600"/>
                  <a:pt x="658" y="594"/>
                </a:cubicBezTo>
                <a:cubicBezTo>
                  <a:pt x="674" y="584"/>
                  <a:pt x="713" y="576"/>
                  <a:pt x="713" y="576"/>
                </a:cubicBezTo>
                <a:cubicBezTo>
                  <a:pt x="731" y="564"/>
                  <a:pt x="753" y="556"/>
                  <a:pt x="768" y="540"/>
                </a:cubicBezTo>
                <a:cubicBezTo>
                  <a:pt x="820" y="487"/>
                  <a:pt x="793" y="501"/>
                  <a:pt x="841" y="485"/>
                </a:cubicBezTo>
                <a:cubicBezTo>
                  <a:pt x="875" y="449"/>
                  <a:pt x="867" y="479"/>
                  <a:pt x="914" y="494"/>
                </a:cubicBezTo>
                <a:cubicBezTo>
                  <a:pt x="946" y="516"/>
                  <a:pt x="930" y="512"/>
                  <a:pt x="960" y="512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60320" y="4289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5640" y="1484280"/>
            <a:ext cx="36036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907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光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未知"/>
          <p:cNvSpPr/>
          <p:nvPr/>
        </p:nvSpPr>
        <p:spPr>
          <a:xfrm>
            <a:off x="506520" y="1363680"/>
            <a:ext cx="4456080" cy="2903400"/>
          </a:xfrm>
          <a:custGeom>
            <a:avLst/>
            <a:gdLst/>
            <a:ahLst/>
            <a:rect l="l" t="t" r="r" b="b"/>
            <a:pathLst>
              <a:path w="2807" h="1829">
                <a:moveTo>
                  <a:pt x="65" y="0"/>
                </a:moveTo>
                <a:cubicBezTo>
                  <a:pt x="556" y="3"/>
                  <a:pt x="1046" y="4"/>
                  <a:pt x="1537" y="10"/>
                </a:cubicBezTo>
                <a:cubicBezTo>
                  <a:pt x="1623" y="11"/>
                  <a:pt x="1793" y="37"/>
                  <a:pt x="1793" y="37"/>
                </a:cubicBezTo>
                <a:cubicBezTo>
                  <a:pt x="1856" y="58"/>
                  <a:pt x="1837" y="73"/>
                  <a:pt x="1848" y="147"/>
                </a:cubicBezTo>
                <a:cubicBezTo>
                  <a:pt x="1855" y="195"/>
                  <a:pt x="1869" y="270"/>
                  <a:pt x="1903" y="302"/>
                </a:cubicBezTo>
                <a:cubicBezTo>
                  <a:pt x="1930" y="388"/>
                  <a:pt x="1912" y="582"/>
                  <a:pt x="1985" y="659"/>
                </a:cubicBezTo>
                <a:cubicBezTo>
                  <a:pt x="1997" y="695"/>
                  <a:pt x="2026" y="709"/>
                  <a:pt x="2049" y="741"/>
                </a:cubicBezTo>
                <a:cubicBezTo>
                  <a:pt x="2062" y="779"/>
                  <a:pt x="2090" y="808"/>
                  <a:pt x="2113" y="842"/>
                </a:cubicBezTo>
                <a:cubicBezTo>
                  <a:pt x="2119" y="851"/>
                  <a:pt x="2128" y="859"/>
                  <a:pt x="2131" y="869"/>
                </a:cubicBezTo>
                <a:cubicBezTo>
                  <a:pt x="2134" y="878"/>
                  <a:pt x="2135" y="888"/>
                  <a:pt x="2140" y="896"/>
                </a:cubicBezTo>
                <a:cubicBezTo>
                  <a:pt x="2161" y="931"/>
                  <a:pt x="2213" y="956"/>
                  <a:pt x="2250" y="970"/>
                </a:cubicBezTo>
                <a:cubicBezTo>
                  <a:pt x="2311" y="1062"/>
                  <a:pt x="2229" y="943"/>
                  <a:pt x="2287" y="1015"/>
                </a:cubicBezTo>
                <a:cubicBezTo>
                  <a:pt x="2294" y="1024"/>
                  <a:pt x="2300" y="1033"/>
                  <a:pt x="2305" y="1043"/>
                </a:cubicBezTo>
                <a:cubicBezTo>
                  <a:pt x="2309" y="1052"/>
                  <a:pt x="2309" y="1062"/>
                  <a:pt x="2314" y="1070"/>
                </a:cubicBezTo>
                <a:cubicBezTo>
                  <a:pt x="2328" y="1092"/>
                  <a:pt x="2348" y="1102"/>
                  <a:pt x="2369" y="1116"/>
                </a:cubicBezTo>
                <a:cubicBezTo>
                  <a:pt x="2406" y="1171"/>
                  <a:pt x="2462" y="1199"/>
                  <a:pt x="2515" y="1235"/>
                </a:cubicBezTo>
                <a:cubicBezTo>
                  <a:pt x="2522" y="1240"/>
                  <a:pt x="2526" y="1250"/>
                  <a:pt x="2534" y="1253"/>
                </a:cubicBezTo>
                <a:cubicBezTo>
                  <a:pt x="2548" y="1259"/>
                  <a:pt x="2637" y="1270"/>
                  <a:pt x="2643" y="1271"/>
                </a:cubicBezTo>
                <a:cubicBezTo>
                  <a:pt x="2680" y="1283"/>
                  <a:pt x="2686" y="1299"/>
                  <a:pt x="2698" y="1335"/>
                </a:cubicBezTo>
                <a:cubicBezTo>
                  <a:pt x="2722" y="1503"/>
                  <a:pt x="2807" y="1762"/>
                  <a:pt x="2607" y="1829"/>
                </a:cubicBezTo>
                <a:cubicBezTo>
                  <a:pt x="1799" y="1789"/>
                  <a:pt x="1185" y="1787"/>
                  <a:pt x="266" y="1783"/>
                </a:cubicBezTo>
                <a:cubicBezTo>
                  <a:pt x="225" y="1775"/>
                  <a:pt x="204" y="1760"/>
                  <a:pt x="166" y="1747"/>
                </a:cubicBezTo>
                <a:cubicBezTo>
                  <a:pt x="152" y="1733"/>
                  <a:pt x="133" y="1725"/>
                  <a:pt x="120" y="1710"/>
                </a:cubicBezTo>
                <a:cubicBezTo>
                  <a:pt x="111" y="1700"/>
                  <a:pt x="109" y="1685"/>
                  <a:pt x="102" y="1674"/>
                </a:cubicBezTo>
                <a:cubicBezTo>
                  <a:pt x="79" y="1640"/>
                  <a:pt x="51" y="1613"/>
                  <a:pt x="38" y="1573"/>
                </a:cubicBezTo>
                <a:cubicBezTo>
                  <a:pt x="65" y="973"/>
                  <a:pt x="38" y="1653"/>
                  <a:pt x="38" y="293"/>
                </a:cubicBezTo>
                <a:cubicBezTo>
                  <a:pt x="38" y="31"/>
                  <a:pt x="0" y="101"/>
                  <a:pt x="65" y="0"/>
                </a:cubicBezTo>
                <a:close/>
              </a:path>
            </a:pathLst>
          </a:custGeom>
          <a:noFill/>
          <a:ln w="57240">
            <a:solidFill>
              <a:srgbClr val="9ce1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16000" y="1628640"/>
            <a:ext cx="1079640" cy="720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16000" y="2060640"/>
            <a:ext cx="1079640" cy="720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16000" y="2565360"/>
            <a:ext cx="1079640" cy="720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54960" y="3500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高速差分信号区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8960" y="1268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高速数字信号区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5013360"/>
            <a:ext cx="1297080" cy="93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模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44"/>
                </a:solidFill>
                <a:latin typeface="Times New Roman"/>
              </a:rPr>
              <a:t>器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03640" y="4437000"/>
            <a:ext cx="64800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995280" y="4653000"/>
            <a:ext cx="1297080" cy="72072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995640" y="4653000"/>
            <a:ext cx="1586160" cy="93672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924000" y="4581360"/>
            <a:ext cx="1152360" cy="64800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未知"/>
          <p:cNvSpPr/>
          <p:nvPr/>
        </p:nvSpPr>
        <p:spPr>
          <a:xfrm>
            <a:off x="971640" y="4132440"/>
            <a:ext cx="4749840" cy="2320920"/>
          </a:xfrm>
          <a:custGeom>
            <a:avLst/>
            <a:gdLst/>
            <a:ahLst/>
            <a:rect l="l" t="t" r="r" b="b"/>
            <a:pathLst>
              <a:path w="3053" h="1462">
                <a:moveTo>
                  <a:pt x="2558" y="258"/>
                </a:moveTo>
                <a:cubicBezTo>
                  <a:pt x="2716" y="261"/>
                  <a:pt x="2875" y="252"/>
                  <a:pt x="3033" y="267"/>
                </a:cubicBezTo>
                <a:cubicBezTo>
                  <a:pt x="3047" y="268"/>
                  <a:pt x="3050" y="290"/>
                  <a:pt x="3051" y="304"/>
                </a:cubicBezTo>
                <a:cubicBezTo>
                  <a:pt x="3053" y="334"/>
                  <a:pt x="3051" y="366"/>
                  <a:pt x="3042" y="395"/>
                </a:cubicBezTo>
                <a:cubicBezTo>
                  <a:pt x="3017" y="475"/>
                  <a:pt x="2914" y="522"/>
                  <a:pt x="2868" y="587"/>
                </a:cubicBezTo>
                <a:cubicBezTo>
                  <a:pt x="2844" y="662"/>
                  <a:pt x="2806" y="734"/>
                  <a:pt x="2777" y="807"/>
                </a:cubicBezTo>
                <a:cubicBezTo>
                  <a:pt x="2775" y="812"/>
                  <a:pt x="2758" y="881"/>
                  <a:pt x="2740" y="889"/>
                </a:cubicBezTo>
                <a:cubicBezTo>
                  <a:pt x="2720" y="898"/>
                  <a:pt x="2697" y="895"/>
                  <a:pt x="2676" y="898"/>
                </a:cubicBezTo>
                <a:cubicBezTo>
                  <a:pt x="2658" y="904"/>
                  <a:pt x="2633" y="901"/>
                  <a:pt x="2622" y="916"/>
                </a:cubicBezTo>
                <a:cubicBezTo>
                  <a:pt x="2594" y="952"/>
                  <a:pt x="2582" y="966"/>
                  <a:pt x="2539" y="980"/>
                </a:cubicBezTo>
                <a:cubicBezTo>
                  <a:pt x="2515" y="1006"/>
                  <a:pt x="2490" y="1006"/>
                  <a:pt x="2466" y="1035"/>
                </a:cubicBezTo>
                <a:cubicBezTo>
                  <a:pt x="2433" y="1075"/>
                  <a:pt x="2460" y="1049"/>
                  <a:pt x="2439" y="1090"/>
                </a:cubicBezTo>
                <a:cubicBezTo>
                  <a:pt x="2423" y="1122"/>
                  <a:pt x="2393" y="1141"/>
                  <a:pt x="2375" y="1172"/>
                </a:cubicBezTo>
                <a:cubicBezTo>
                  <a:pt x="2361" y="1197"/>
                  <a:pt x="2352" y="1226"/>
                  <a:pt x="2329" y="1245"/>
                </a:cubicBezTo>
                <a:cubicBezTo>
                  <a:pt x="2317" y="1255"/>
                  <a:pt x="2262" y="1262"/>
                  <a:pt x="2256" y="1264"/>
                </a:cubicBezTo>
                <a:cubicBezTo>
                  <a:pt x="2198" y="1280"/>
                  <a:pt x="2141" y="1295"/>
                  <a:pt x="2082" y="1309"/>
                </a:cubicBezTo>
                <a:cubicBezTo>
                  <a:pt x="2022" y="1351"/>
                  <a:pt x="1935" y="1363"/>
                  <a:pt x="1863" y="1373"/>
                </a:cubicBezTo>
                <a:cubicBezTo>
                  <a:pt x="1342" y="1369"/>
                  <a:pt x="685" y="1462"/>
                  <a:pt x="144" y="1282"/>
                </a:cubicBezTo>
                <a:cubicBezTo>
                  <a:pt x="88" y="1226"/>
                  <a:pt x="90" y="1212"/>
                  <a:pt x="52" y="1136"/>
                </a:cubicBezTo>
                <a:cubicBezTo>
                  <a:pt x="43" y="1118"/>
                  <a:pt x="25" y="1081"/>
                  <a:pt x="25" y="1081"/>
                </a:cubicBezTo>
                <a:cubicBezTo>
                  <a:pt x="3" y="899"/>
                  <a:pt x="7" y="955"/>
                  <a:pt x="7" y="633"/>
                </a:cubicBezTo>
                <a:cubicBezTo>
                  <a:pt x="7" y="593"/>
                  <a:pt x="0" y="550"/>
                  <a:pt x="16" y="514"/>
                </a:cubicBezTo>
                <a:cubicBezTo>
                  <a:pt x="27" y="490"/>
                  <a:pt x="80" y="468"/>
                  <a:pt x="80" y="468"/>
                </a:cubicBezTo>
                <a:cubicBezTo>
                  <a:pt x="92" y="450"/>
                  <a:pt x="104" y="431"/>
                  <a:pt x="116" y="413"/>
                </a:cubicBezTo>
                <a:cubicBezTo>
                  <a:pt x="121" y="405"/>
                  <a:pt x="119" y="393"/>
                  <a:pt x="126" y="386"/>
                </a:cubicBezTo>
                <a:cubicBezTo>
                  <a:pt x="133" y="379"/>
                  <a:pt x="145" y="381"/>
                  <a:pt x="153" y="377"/>
                </a:cubicBezTo>
                <a:cubicBezTo>
                  <a:pt x="250" y="328"/>
                  <a:pt x="120" y="388"/>
                  <a:pt x="199" y="340"/>
                </a:cubicBezTo>
                <a:cubicBezTo>
                  <a:pt x="207" y="335"/>
                  <a:pt x="218" y="336"/>
                  <a:pt x="226" y="331"/>
                </a:cubicBezTo>
                <a:cubicBezTo>
                  <a:pt x="275" y="304"/>
                  <a:pt x="321" y="271"/>
                  <a:pt x="372" y="249"/>
                </a:cubicBezTo>
                <a:cubicBezTo>
                  <a:pt x="420" y="229"/>
                  <a:pt x="477" y="216"/>
                  <a:pt x="528" y="203"/>
                </a:cubicBezTo>
                <a:cubicBezTo>
                  <a:pt x="1016" y="206"/>
                  <a:pt x="1556" y="0"/>
                  <a:pt x="1991" y="221"/>
                </a:cubicBezTo>
                <a:cubicBezTo>
                  <a:pt x="2073" y="263"/>
                  <a:pt x="1921" y="218"/>
                  <a:pt x="2046" y="249"/>
                </a:cubicBezTo>
                <a:cubicBezTo>
                  <a:pt x="2083" y="273"/>
                  <a:pt x="2112" y="285"/>
                  <a:pt x="2155" y="295"/>
                </a:cubicBezTo>
                <a:cubicBezTo>
                  <a:pt x="2210" y="322"/>
                  <a:pt x="2178" y="308"/>
                  <a:pt x="2247" y="331"/>
                </a:cubicBezTo>
                <a:cubicBezTo>
                  <a:pt x="2256" y="334"/>
                  <a:pt x="2274" y="340"/>
                  <a:pt x="2274" y="340"/>
                </a:cubicBezTo>
                <a:cubicBezTo>
                  <a:pt x="2354" y="336"/>
                  <a:pt x="2443" y="361"/>
                  <a:pt x="2503" y="304"/>
                </a:cubicBezTo>
                <a:cubicBezTo>
                  <a:pt x="2516" y="262"/>
                  <a:pt x="2510" y="243"/>
                  <a:pt x="2558" y="258"/>
                </a:cubicBezTo>
                <a:close/>
              </a:path>
            </a:pathLst>
          </a:cu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75680" y="5862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大功率信号区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16000" y="4941720"/>
            <a:ext cx="28908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8000" y="48690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声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1402920" y="5372280"/>
            <a:ext cx="1297080" cy="144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331640" y="5661000"/>
            <a:ext cx="1368360" cy="0"/>
          </a:xfrm>
          <a:prstGeom prst="line">
            <a:avLst/>
          </a:prstGeom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增强滤波：磁珠 ＋ 电容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2403360"/>
            <a:ext cx="8785080" cy="4410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329080" y="992160"/>
            <a:ext cx="3635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磁珠特性及选择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995640" y="2098800"/>
            <a:ext cx="5077080" cy="38512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直流电阻尽可能低，同时需要过滤的干扰的频率范围内的阻抗尽可能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但太小的直流电阻会引起谐振，所以不推荐使用直流电阻太低的磁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推荐使用没有给出低频特性的磁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的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EMC</a:t>
            </a: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设计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835280" y="4365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：总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电流和回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电源滤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：天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信号线和地线的比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1401480"/>
            <a:ext cx="856908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用于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双层板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C-IC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信号线连接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CB-PCB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电缆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接插件互联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般原则【信号线和“地线”的比例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时钟线：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: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普通信号线：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4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8):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天线效应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设备内的每根布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金属都是“天线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线长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波长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2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就能成为天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M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信号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次谐波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0M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cm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长的布线就可能成为天线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长度为信号波长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时，便是一个将信号转变成场的极好的转换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设备内部电缆及外接电缆很容易成为天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频率 </a:t>
            </a:r>
            <a:r>
              <a:rPr b="0" lang="en-US" sz="4400" spc="-1" strike="noStrike">
                <a:solidFill>
                  <a:srgbClr val="99cc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宋体"/>
              </a:rPr>
              <a:t>λ/20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900000" y="1052640"/>
          <a:ext cx="7632720" cy="5181480"/>
        </p:xfrm>
        <a:graphic>
          <a:graphicData uri="http://schemas.openxmlformats.org/drawingml/2006/table">
            <a:tbl>
              <a:tblPr/>
              <a:tblGrid>
                <a:gridCol w="3524400"/>
                <a:gridCol w="410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频率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MHz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λ/20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波长距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.5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0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9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5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.4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.5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.6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.5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.5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避免天线效应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阻抗布线，才会成为天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态输出，会成为不稳定天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允许时降低阻抗（例如地址线，上拉电阻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不允许时，减少长度（例如数据线）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未良好接地的铜皮、金属、电缆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良好接地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067280" y="3573360"/>
            <a:ext cx="4752360" cy="2500200"/>
            <a:chOff x="4067280" y="3573360"/>
            <a:chExt cx="4752360" cy="2500200"/>
          </a:xfrm>
        </p:grpSpPr>
        <p:sp>
          <p:nvSpPr>
            <p:cNvPr id="553" name=""/>
            <p:cNvSpPr/>
            <p:nvPr/>
          </p:nvSpPr>
          <p:spPr>
            <a:xfrm rot="5400000">
              <a:off x="5503680" y="4488480"/>
              <a:ext cx="1657440" cy="1223640"/>
            </a:xfrm>
            <a:prstGeom prst="triangle">
              <a:avLst>
                <a:gd name="adj" fmla="val 50000"/>
              </a:avLst>
            </a:prstGeom>
            <a:solidFill>
              <a:srgbClr val="9ce15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35640" y="5137200"/>
              <a:ext cx="1584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75280" y="4994280"/>
              <a:ext cx="360000" cy="287280"/>
            </a:xfrm>
            <a:prstGeom prst="ellipse">
              <a:avLst/>
            </a:prstGeom>
            <a:solidFill>
              <a:srgbClr val="9ce15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98920" y="5497560"/>
              <a:ext cx="215640" cy="215640"/>
            </a:xfrm>
            <a:prstGeom prst="ellipse">
              <a:avLst/>
            </a:prstGeom>
            <a:solidFill>
              <a:srgbClr val="9ce15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67280" y="5065560"/>
              <a:ext cx="1655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8360" y="6073560"/>
              <a:ext cx="2374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43280" y="5713200"/>
              <a:ext cx="0" cy="3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2000" y="4273560"/>
              <a:ext cx="286920" cy="647640"/>
            </a:xfrm>
            <a:prstGeom prst="rect">
              <a:avLst/>
            </a:prstGeom>
            <a:solidFill>
              <a:srgbClr val="9ce15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6360" y="4921200"/>
              <a:ext cx="0" cy="216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56360" y="4057560"/>
              <a:ext cx="0" cy="216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12000" y="4057560"/>
              <a:ext cx="286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77640" y="35733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天线 ——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敷铜问题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5291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周包地线，但是没有与地层良好连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该地线成了接收和发射电磁场的天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916360" y="950760"/>
            <a:ext cx="5832360" cy="43833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79280" y="184464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MHz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信号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波长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米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5c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布线就是天线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敷铜问题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子设备中的任何悬浮的铜皮（未充分接地的填充）或者散热器，都可能成为“天线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表面敷铜一定要“良好接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多层板中间层的布线空旷区域，不要敷铜。因为很难做到让这个敷铜“良好接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备内部的金属，例如金属散热器、金属加固条等，一定要实现“良好接地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三端稳压器的散热金属块，一定要良好接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晶振附近的接地隔离带，一定要良好接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10920" y="1628640"/>
            <a:ext cx="4751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ccff"/>
                </a:solidFill>
                <a:latin typeface="Arial"/>
              </a:rPr>
              <a:t>谢谢！</a:t>
            </a:r>
            <a:endParaRPr b="0" lang="en-US" sz="6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5760" y="4221000"/>
            <a:ext cx="80769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欢迎访问我们的网站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www.emcdi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info@emcdir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95640" y="442080"/>
            <a:ext cx="3095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板间电缆</a:t>
            </a:r>
            <a:br>
              <a:rPr sz="3200"/>
            </a:br>
            <a:r>
              <a:rPr b="0" lang="zh-CN" sz="3200" spc="-1" strike="noStrike">
                <a:solidFill>
                  <a:srgbClr val="99ccff"/>
                </a:solidFill>
                <a:latin typeface="Arial"/>
              </a:rPr>
              <a:t>上的电磁辐射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40000" y="2335320"/>
          <a:ext cx="680400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335320"/>
                    <a:ext cx="68040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PCB</a:t>
            </a: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的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EMC</a:t>
            </a:r>
            <a:r>
              <a:rPr b="0" lang="zh-CN" sz="4000" spc="-1" strike="noStrike">
                <a:solidFill>
                  <a:srgbClr val="99ccff"/>
                </a:solidFill>
                <a:latin typeface="Arial"/>
              </a:rPr>
              <a:t>设计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835280" y="4365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：总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电流和回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66ff99"/>
                </a:solidFill>
                <a:latin typeface="Arial"/>
              </a:rPr>
              <a:t>：电源滤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设计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天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△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I 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噪声电流是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EMI</a:t>
            </a: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的根源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748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信号发生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0-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的变换时，该门电路中的晶体管将发生导通和截止状态的转换，会有电流从所接电源流入门电路，或从门电路流入地线，这个变化的电流就是△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噪声的源，亦称为△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噪声电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由于电源线和地线存在一定的阻抗，其电流的变化将通过阻抗引起尖峰电压，并引发其电流电压的波动，这个电源电压变化就是△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噪声电压，会引起误操作，并产生传导骚扰和辐射骚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在电路中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当器件的众多信号管脚同时发生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－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变换时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不论是否接有容性负载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都会产生很大的△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噪声电流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Arial"/>
              </a:rPr>
              <a:t>使得器件外部的工作电源电压发生突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054080"/>
            <a:ext cx="9144000" cy="5327640"/>
          </a:xfrm>
          <a:prstGeom prst="rect">
            <a:avLst/>
          </a:prstGeom>
          <a:solidFill>
            <a:srgbClr val="000044"/>
          </a:soli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地线和电源线上的噪声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5320" y="1413000"/>
            <a:ext cx="563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22680" y="1722600"/>
            <a:ext cx="152280" cy="609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99000" y="14176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99000" y="23320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393720" y="2560680"/>
            <a:ext cx="3049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94080" y="2941560"/>
            <a:ext cx="38088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94080" y="263700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31960" y="2860560"/>
            <a:ext cx="762120" cy="5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470400" y="4008600"/>
            <a:ext cx="30456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4389480"/>
            <a:ext cx="38088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0400" y="400860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79800">
            <a:off x="3622320" y="33984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9ce15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74960" y="3170160"/>
            <a:ext cx="0" cy="223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74960" y="362736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22680" y="362736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4618080"/>
            <a:ext cx="0" cy="1214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99000" y="598500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74960" y="6060960"/>
            <a:ext cx="152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22680" y="5904000"/>
            <a:ext cx="457200" cy="4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8280" y="4308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27400" y="3094200"/>
            <a:ext cx="30456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798560"/>
            <a:ext cx="152280" cy="60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1960" y="24084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27400" y="3475080"/>
            <a:ext cx="38088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27400" y="309420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8280" y="370368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31960" y="4389480"/>
            <a:ext cx="152640" cy="609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8480" y="3394080"/>
            <a:ext cx="628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31960" y="1413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9000" y="1793880"/>
            <a:ext cx="152280" cy="609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65320" y="1413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5320" y="240336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17600" y="2936880"/>
            <a:ext cx="38088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480" y="29368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3200" y="2936880"/>
            <a:ext cx="3808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0920" y="2936880"/>
            <a:ext cx="3808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55120" y="2936880"/>
            <a:ext cx="38124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080" y="339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308916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36880" y="217476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65480" y="446076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74960" y="3851280"/>
            <a:ext cx="4038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89600" y="3851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89600" y="461340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37320" y="4384800"/>
            <a:ext cx="399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08280" y="5222880"/>
            <a:ext cx="5105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08280" y="499428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5480" y="1793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8800" y="1793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74760" y="446076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0880" y="1870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99080" y="1413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3978360" y="1527120"/>
            <a:ext cx="1701720" cy="1714680"/>
          </a:xfrm>
          <a:custGeom>
            <a:avLst/>
            <a:gdLst/>
            <a:ahLst/>
            <a:rect l="l" t="t" r="r" b="b"/>
            <a:pathLst>
              <a:path w="1072" h="1080">
                <a:moveTo>
                  <a:pt x="1072" y="24"/>
                </a:moveTo>
                <a:cubicBezTo>
                  <a:pt x="840" y="12"/>
                  <a:pt x="608" y="0"/>
                  <a:pt x="448" y="24"/>
                </a:cubicBezTo>
                <a:cubicBezTo>
                  <a:pt x="288" y="48"/>
                  <a:pt x="184" y="72"/>
                  <a:pt x="112" y="168"/>
                </a:cubicBezTo>
                <a:cubicBezTo>
                  <a:pt x="40" y="264"/>
                  <a:pt x="32" y="448"/>
                  <a:pt x="16" y="600"/>
                </a:cubicBezTo>
                <a:cubicBezTo>
                  <a:pt x="0" y="752"/>
                  <a:pt x="8" y="916"/>
                  <a:pt x="16" y="108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37480" y="4232160"/>
            <a:ext cx="152280" cy="60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3800" y="385128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13800" y="4842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87720" y="3774960"/>
            <a:ext cx="91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被驱动电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4194000" y="2631960"/>
            <a:ext cx="3391200" cy="2057400"/>
          </a:xfrm>
          <a:custGeom>
            <a:avLst/>
            <a:gdLst/>
            <a:ahLst/>
            <a:rect l="l" t="t" r="r" b="b"/>
            <a:pathLst>
              <a:path w="2136" h="1296">
                <a:moveTo>
                  <a:pt x="24" y="0"/>
                </a:moveTo>
                <a:cubicBezTo>
                  <a:pt x="12" y="148"/>
                  <a:pt x="0" y="296"/>
                  <a:pt x="24" y="384"/>
                </a:cubicBezTo>
                <a:cubicBezTo>
                  <a:pt x="48" y="472"/>
                  <a:pt x="120" y="496"/>
                  <a:pt x="168" y="528"/>
                </a:cubicBezTo>
                <a:cubicBezTo>
                  <a:pt x="216" y="560"/>
                  <a:pt x="96" y="568"/>
                  <a:pt x="312" y="576"/>
                </a:cubicBezTo>
                <a:cubicBezTo>
                  <a:pt x="528" y="584"/>
                  <a:pt x="1192" y="536"/>
                  <a:pt x="1464" y="576"/>
                </a:cubicBezTo>
                <a:cubicBezTo>
                  <a:pt x="1736" y="616"/>
                  <a:pt x="1832" y="696"/>
                  <a:pt x="1944" y="816"/>
                </a:cubicBezTo>
                <a:cubicBezTo>
                  <a:pt x="2056" y="936"/>
                  <a:pt x="2096" y="1116"/>
                  <a:pt x="2136" y="1296"/>
                </a:cubicBezTo>
              </a:path>
            </a:pathLst>
          </a:custGeom>
          <a:noFill/>
          <a:ln w="5724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5603760" y="3495600"/>
            <a:ext cx="800280" cy="1422360"/>
          </a:xfrm>
          <a:custGeom>
            <a:avLst/>
            <a:gdLst/>
            <a:ahLst/>
            <a:rect l="l" t="t" r="r" b="b"/>
            <a:pathLst>
              <a:path w="504" h="896">
                <a:moveTo>
                  <a:pt x="0" y="32"/>
                </a:moveTo>
                <a:cubicBezTo>
                  <a:pt x="128" y="16"/>
                  <a:pt x="256" y="0"/>
                  <a:pt x="336" y="80"/>
                </a:cubicBezTo>
                <a:cubicBezTo>
                  <a:pt x="416" y="160"/>
                  <a:pt x="456" y="376"/>
                  <a:pt x="480" y="512"/>
                </a:cubicBezTo>
                <a:cubicBezTo>
                  <a:pt x="504" y="648"/>
                  <a:pt x="492" y="772"/>
                  <a:pt x="480" y="896"/>
                </a:cubicBezTo>
              </a:path>
            </a:pathLst>
          </a:custGeom>
          <a:noFill/>
          <a:ln w="57240">
            <a:solidFill>
              <a:srgbClr val="cc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4257720" y="3990960"/>
            <a:ext cx="1422360" cy="1536840"/>
          </a:xfrm>
          <a:custGeom>
            <a:avLst/>
            <a:gdLst/>
            <a:ahLst/>
            <a:rect l="l" t="t" r="r" b="b"/>
            <a:pathLst>
              <a:path w="896" h="968">
                <a:moveTo>
                  <a:pt x="896" y="392"/>
                </a:moveTo>
                <a:cubicBezTo>
                  <a:pt x="884" y="276"/>
                  <a:pt x="872" y="160"/>
                  <a:pt x="848" y="104"/>
                </a:cubicBezTo>
                <a:cubicBezTo>
                  <a:pt x="824" y="48"/>
                  <a:pt x="856" y="64"/>
                  <a:pt x="752" y="56"/>
                </a:cubicBezTo>
                <a:cubicBezTo>
                  <a:pt x="648" y="48"/>
                  <a:pt x="344" y="0"/>
                  <a:pt x="224" y="56"/>
                </a:cubicBezTo>
                <a:cubicBezTo>
                  <a:pt x="104" y="112"/>
                  <a:pt x="64" y="240"/>
                  <a:pt x="32" y="392"/>
                </a:cubicBezTo>
                <a:cubicBezTo>
                  <a:pt x="0" y="544"/>
                  <a:pt x="16" y="756"/>
                  <a:pt x="32" y="968"/>
                </a:cubicBezTo>
              </a:path>
            </a:pathLst>
          </a:custGeom>
          <a:noFill/>
          <a:ln w="57240">
            <a:solidFill>
              <a:srgbClr val="0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99200" y="156528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51680" y="324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</a:rPr>
              <a:t>驱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42200" y="45370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cc3399"/>
                </a:solidFill>
                <a:latin typeface="Times New Roman"/>
              </a:rPr>
              <a:t>充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08480" y="537516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</a:t>
            </a:r>
            <a:r>
              <a:rPr b="1" lang="zh-CN" sz="2400" spc="-1" strike="noStrike" baseline="-25000">
                <a:solidFill>
                  <a:srgbClr val="008080"/>
                </a:solidFill>
                <a:latin typeface="Times New Roman"/>
              </a:rPr>
              <a:t>放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22680" y="5299200"/>
            <a:ext cx="0" cy="457200"/>
          </a:xfrm>
          <a:prstGeom prst="line">
            <a:avLst/>
          </a:prstGeom>
          <a:ln w="57240">
            <a:solidFill>
              <a:srgbClr val="f98d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36880" y="52228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cc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5146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37320" y="4537080"/>
            <a:ext cx="399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981000"/>
            <a:ext cx="9144000" cy="5327640"/>
          </a:xfrm>
          <a:prstGeom prst="rect">
            <a:avLst/>
          </a:prstGeom>
          <a:solidFill>
            <a:srgbClr val="000044"/>
          </a:soli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Arial"/>
              </a:rPr>
              <a:t>电源线、地线噪声电压波形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589040" y="1268280"/>
            <a:ext cx="0" cy="457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9040" y="203040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9040" y="294480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9040" y="378288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9040" y="484992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1589040" y="1344600"/>
            <a:ext cx="6477120" cy="685800"/>
          </a:xfrm>
          <a:custGeom>
            <a:avLst/>
            <a:gdLst/>
            <a:ahLst/>
            <a:rect l="l" t="t" r="r" b="b"/>
            <a:pathLst>
              <a:path w="4080" h="432">
                <a:moveTo>
                  <a:pt x="0" y="432"/>
                </a:moveTo>
                <a:lnTo>
                  <a:pt x="720" y="432"/>
                </a:lnTo>
                <a:lnTo>
                  <a:pt x="960" y="0"/>
                </a:lnTo>
                <a:lnTo>
                  <a:pt x="1440" y="0"/>
                </a:lnTo>
                <a:lnTo>
                  <a:pt x="1680" y="432"/>
                </a:lnTo>
                <a:lnTo>
                  <a:pt x="2592" y="432"/>
                </a:lnTo>
                <a:lnTo>
                  <a:pt x="2784" y="0"/>
                </a:lnTo>
                <a:lnTo>
                  <a:pt x="3360" y="0"/>
                </a:lnTo>
                <a:lnTo>
                  <a:pt x="3552" y="432"/>
                </a:lnTo>
                <a:lnTo>
                  <a:pt x="4080" y="432"/>
                </a:lnTo>
              </a:path>
            </a:pathLst>
          </a:custGeom>
          <a:noFill/>
          <a:ln w="7632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32040" y="19540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12920" y="1420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75040" y="134460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55920" y="19540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03840" y="19540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08760" y="142092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3160" y="142092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27720" y="19540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725480"/>
            <a:ext cx="11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输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1589040" y="2259000"/>
            <a:ext cx="6248520" cy="457200"/>
          </a:xfrm>
          <a:custGeom>
            <a:avLst/>
            <a:gdLst/>
            <a:ahLst/>
            <a:rect l="l" t="t" r="r" b="b"/>
            <a:pathLst>
              <a:path w="3936" h="288">
                <a:moveTo>
                  <a:pt x="0" y="288"/>
                </a:moveTo>
                <a:lnTo>
                  <a:pt x="720" y="288"/>
                </a:lnTo>
                <a:lnTo>
                  <a:pt x="816" y="0"/>
                </a:lnTo>
                <a:lnTo>
                  <a:pt x="960" y="288"/>
                </a:lnTo>
                <a:lnTo>
                  <a:pt x="1440" y="288"/>
                </a:lnTo>
                <a:lnTo>
                  <a:pt x="1536" y="144"/>
                </a:lnTo>
                <a:lnTo>
                  <a:pt x="1680" y="288"/>
                </a:lnTo>
                <a:lnTo>
                  <a:pt x="2592" y="288"/>
                </a:lnTo>
                <a:lnTo>
                  <a:pt x="2688" y="0"/>
                </a:lnTo>
                <a:lnTo>
                  <a:pt x="2784" y="288"/>
                </a:lnTo>
                <a:lnTo>
                  <a:pt x="3360" y="288"/>
                </a:lnTo>
                <a:lnTo>
                  <a:pt x="3456" y="144"/>
                </a:lnTo>
                <a:lnTo>
                  <a:pt x="3552" y="288"/>
                </a:lnTo>
                <a:lnTo>
                  <a:pt x="3936" y="28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7800" y="2639880"/>
            <a:ext cx="101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480" y="3478320"/>
            <a:ext cx="101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9040" y="5611680"/>
            <a:ext cx="7086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4120" y="43164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4120" y="5230800"/>
            <a:ext cx="101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1589040" y="4164120"/>
            <a:ext cx="6248520" cy="457200"/>
          </a:xfrm>
          <a:custGeom>
            <a:avLst/>
            <a:gdLst/>
            <a:ahLst/>
            <a:rect l="l" t="t" r="r" b="b"/>
            <a:pathLst>
              <a:path w="3936" h="288">
                <a:moveTo>
                  <a:pt x="0" y="288"/>
                </a:moveTo>
                <a:lnTo>
                  <a:pt x="720" y="288"/>
                </a:lnTo>
                <a:lnTo>
                  <a:pt x="816" y="96"/>
                </a:lnTo>
                <a:lnTo>
                  <a:pt x="960" y="288"/>
                </a:lnTo>
                <a:lnTo>
                  <a:pt x="1440" y="288"/>
                </a:lnTo>
                <a:lnTo>
                  <a:pt x="1536" y="0"/>
                </a:lnTo>
                <a:lnTo>
                  <a:pt x="1680" y="288"/>
                </a:lnTo>
                <a:lnTo>
                  <a:pt x="2592" y="288"/>
                </a:lnTo>
                <a:lnTo>
                  <a:pt x="2688" y="96"/>
                </a:lnTo>
                <a:lnTo>
                  <a:pt x="2784" y="288"/>
                </a:lnTo>
                <a:lnTo>
                  <a:pt x="3360" y="288"/>
                </a:lnTo>
                <a:lnTo>
                  <a:pt x="3456" y="0"/>
                </a:lnTo>
                <a:lnTo>
                  <a:pt x="3552" y="288"/>
                </a:lnTo>
                <a:lnTo>
                  <a:pt x="3936" y="2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2732040" y="3325680"/>
            <a:ext cx="5105520" cy="838440"/>
          </a:xfrm>
          <a:custGeom>
            <a:avLst/>
            <a:gdLst/>
            <a:ahLst/>
            <a:rect l="l" t="t" r="r" b="b"/>
            <a:pathLst>
              <a:path w="3216" h="528">
                <a:moveTo>
                  <a:pt x="0" y="288"/>
                </a:moveTo>
                <a:lnTo>
                  <a:pt x="48" y="528"/>
                </a:lnTo>
                <a:lnTo>
                  <a:pt x="192" y="0"/>
                </a:lnTo>
                <a:lnTo>
                  <a:pt x="240" y="288"/>
                </a:lnTo>
                <a:lnTo>
                  <a:pt x="720" y="288"/>
                </a:lnTo>
                <a:lnTo>
                  <a:pt x="768" y="528"/>
                </a:lnTo>
                <a:lnTo>
                  <a:pt x="864" y="48"/>
                </a:lnTo>
                <a:lnTo>
                  <a:pt x="960" y="288"/>
                </a:lnTo>
                <a:lnTo>
                  <a:pt x="1872" y="288"/>
                </a:lnTo>
                <a:lnTo>
                  <a:pt x="1920" y="528"/>
                </a:lnTo>
                <a:lnTo>
                  <a:pt x="2016" y="0"/>
                </a:lnTo>
                <a:lnTo>
                  <a:pt x="2064" y="288"/>
                </a:lnTo>
                <a:lnTo>
                  <a:pt x="2640" y="288"/>
                </a:lnTo>
                <a:lnTo>
                  <a:pt x="2688" y="480"/>
                </a:lnTo>
                <a:lnTo>
                  <a:pt x="2784" y="48"/>
                </a:lnTo>
                <a:lnTo>
                  <a:pt x="2832" y="288"/>
                </a:lnTo>
                <a:lnTo>
                  <a:pt x="3216" y="28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未知"/>
          <p:cNvSpPr/>
          <p:nvPr/>
        </p:nvSpPr>
        <p:spPr>
          <a:xfrm flipV="1">
            <a:off x="2732040" y="5230800"/>
            <a:ext cx="5105520" cy="838080"/>
          </a:xfrm>
          <a:custGeom>
            <a:avLst/>
            <a:gdLst/>
            <a:ahLst/>
            <a:rect l="l" t="t" r="r" b="b"/>
            <a:pathLst>
              <a:path w="3216" h="528">
                <a:moveTo>
                  <a:pt x="0" y="288"/>
                </a:moveTo>
                <a:lnTo>
                  <a:pt x="48" y="528"/>
                </a:lnTo>
                <a:lnTo>
                  <a:pt x="192" y="0"/>
                </a:lnTo>
                <a:lnTo>
                  <a:pt x="240" y="288"/>
                </a:lnTo>
                <a:lnTo>
                  <a:pt x="720" y="288"/>
                </a:lnTo>
                <a:lnTo>
                  <a:pt x="768" y="528"/>
                </a:lnTo>
                <a:lnTo>
                  <a:pt x="864" y="48"/>
                </a:lnTo>
                <a:lnTo>
                  <a:pt x="960" y="288"/>
                </a:lnTo>
                <a:lnTo>
                  <a:pt x="1872" y="288"/>
                </a:lnTo>
                <a:lnTo>
                  <a:pt x="1920" y="528"/>
                </a:lnTo>
                <a:lnTo>
                  <a:pt x="2016" y="0"/>
                </a:lnTo>
                <a:lnTo>
                  <a:pt x="2064" y="288"/>
                </a:lnTo>
                <a:lnTo>
                  <a:pt x="2640" y="288"/>
                </a:lnTo>
                <a:lnTo>
                  <a:pt x="2688" y="480"/>
                </a:lnTo>
                <a:lnTo>
                  <a:pt x="2784" y="48"/>
                </a:lnTo>
                <a:lnTo>
                  <a:pt x="2832" y="288"/>
                </a:lnTo>
                <a:lnTo>
                  <a:pt x="3216" y="2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1144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去耦电容对△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噪声的抑制原理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446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正确的连接方法是：让连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C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引脚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N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引脚的布线以及电容的网络，呈现最小阻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464000" y="2924280"/>
            <a:ext cx="4500360" cy="3260880"/>
            <a:chOff x="4464000" y="2924280"/>
            <a:chExt cx="4500360" cy="3260880"/>
          </a:xfrm>
        </p:grpSpPr>
        <p:sp>
          <p:nvSpPr>
            <p:cNvPr id="266" name=""/>
            <p:cNvSpPr/>
            <p:nvPr/>
          </p:nvSpPr>
          <p:spPr>
            <a:xfrm flipV="1">
              <a:off x="4973400" y="3098520"/>
              <a:ext cx="0" cy="24512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73400" y="5550480"/>
              <a:ext cx="356652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5228280" y="3537000"/>
              <a:ext cx="3057120" cy="1896480"/>
            </a:xfrm>
            <a:custGeom>
              <a:avLst/>
              <a:gdLst/>
              <a:ahLst/>
              <a:rect l="l" t="t" r="r" b="b"/>
              <a:pathLst>
                <a:path w="1728" h="1040">
                  <a:moveTo>
                    <a:pt x="0" y="0"/>
                  </a:moveTo>
                  <a:cubicBezTo>
                    <a:pt x="112" y="88"/>
                    <a:pt x="224" y="176"/>
                    <a:pt x="336" y="288"/>
                  </a:cubicBezTo>
                  <a:cubicBezTo>
                    <a:pt x="448" y="400"/>
                    <a:pt x="608" y="592"/>
                    <a:pt x="672" y="672"/>
                  </a:cubicBezTo>
                  <a:cubicBezTo>
                    <a:pt x="736" y="752"/>
                    <a:pt x="688" y="712"/>
                    <a:pt x="720" y="768"/>
                  </a:cubicBezTo>
                  <a:cubicBezTo>
                    <a:pt x="752" y="824"/>
                    <a:pt x="824" y="976"/>
                    <a:pt x="864" y="1008"/>
                  </a:cubicBezTo>
                  <a:cubicBezTo>
                    <a:pt x="904" y="1040"/>
                    <a:pt x="912" y="1024"/>
                    <a:pt x="960" y="960"/>
                  </a:cubicBezTo>
                  <a:cubicBezTo>
                    <a:pt x="1008" y="896"/>
                    <a:pt x="1072" y="736"/>
                    <a:pt x="1152" y="624"/>
                  </a:cubicBezTo>
                  <a:cubicBezTo>
                    <a:pt x="1232" y="512"/>
                    <a:pt x="1344" y="368"/>
                    <a:pt x="1440" y="288"/>
                  </a:cubicBezTo>
                  <a:cubicBezTo>
                    <a:pt x="1536" y="208"/>
                    <a:pt x="1632" y="176"/>
                    <a:pt x="1728" y="144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000" y="2924280"/>
              <a:ext cx="5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70360" y="5550480"/>
              <a:ext cx="59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22640" y="5725440"/>
              <a:ext cx="17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/2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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L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56840" y="5812920"/>
              <a:ext cx="594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95280" y="907920"/>
            <a:ext cx="84963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去耦技术：安装去耦电容来提供一个电流源，补偿逻辑器件工作时所产生的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噪声电流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谐振频率点附近，为电源提供一个接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欧姆的阻抗，使电源在该频率范围内成为理想电源【可以提供无穷大的电流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7:43:27Z</dcterms:created>
  <dc:creator>Compliance Direction Systems Inc.</dc:creator>
  <dc:description/>
  <dc:language>en-US</dc:language>
  <cp:lastModifiedBy>ibm</cp:lastModifiedBy>
  <dcterms:modified xsi:type="dcterms:W3CDTF">2013-06-24T09:08:10Z</dcterms:modified>
  <cp:revision>617</cp:revision>
  <dc:subject>PCB的EMC设计技术</dc:subject>
  <dc:title>电磁兼容的设计和诊断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